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51B8-D5D4-4E04-B99E-EEA44DCF9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0BDD-2C28-4256-8BC8-CF33D0C26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bhs-sbi3u03.wikispaces.com/12.5+Transport+in+Vascular+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5D8C-9350-48A4-8AD4-6ED4CE62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f03am/transloc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DE65-F128-4D3B-9CFF-2CC366BD3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f03am/phloe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A5BE-EA9C-4D20-8438-491D08845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f03am/transloc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63FC-797F-4D6E-88E5-F9D3BA4F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ritannica.com/EBchecked/topic/623731/vascular-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759E-6A77-4FDD-AF6A-9869091B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evelnotes.com/Cell-Specialisation-and-Organism-Organisation/150?tree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8DE1-ED8E-432A-A1EE-6C9395465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tudentry.sg/2013/02/05/health-water-is-grea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5E22-BE1A-4457-91E1-3F5E621C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root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tudyblue.com/notes/note/n/biology-chapter-3-test/deck/25248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12CA-6F16-4AE3-97C2-88A201843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8E17-63CF-477D-85E4-17C7B139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4fcorner.files.wordpress.com/2013/03/img_6223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410D-4F64-42D9-ABB9-4D5486371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Acer-saccharinum-leaves-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D47-7E53-40A9-B414-0196F21A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EE8-1E1F-49A9-8F74-E7F2365A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962-89BF-45A0-91EF-2723898A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A97-4E0A-403D-8411-953F1910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DE8-4E42-4A01-87A7-80CC1D4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9DF-89FF-4505-9787-9F0A4644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F8B-9EFF-41E6-8EAD-257CC87B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AC6-564B-41AC-AC7A-75210AB2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2B3-CB57-468A-9C69-220EE4A7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969-29BE-4A97-8540-1EB5EA3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4A5-AB82-46E9-8139-854A9427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8AF-D2B7-49E9-A318-FDB8D42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3880-2E64-4116-866F-92B3CAA50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 Vascular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to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transport of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moves into phloem through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translocation"/>
          <p:cNvPicPr/>
          <p:nvPr/>
        </p:nvPicPr>
        <p:blipFill>
          <a:blip r:embed="rId1"/>
          <a:stretch/>
        </p:blipFill>
        <p:spPr>
          <a:xfrm>
            <a:off x="3886200" y="2170080"/>
            <a:ext cx="48769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through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long-distance transport of substances through the phloem (living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hloem"/>
          <p:cNvPicPr/>
          <p:nvPr/>
        </p:nvPicPr>
        <p:blipFill>
          <a:blip r:embed="rId1"/>
          <a:stretch/>
        </p:blipFill>
        <p:spPr>
          <a:xfrm>
            <a:off x="4419720" y="2379600"/>
            <a:ext cx="4419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loem to S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s diffuse from 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ves out to the xy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ranslocation"/>
          <p:cNvPicPr/>
          <p:nvPr/>
        </p:nvPicPr>
        <p:blipFill>
          <a:blip r:embed="rId1"/>
          <a:stretch/>
        </p:blipFill>
        <p:spPr>
          <a:xfrm>
            <a:off x="3886200" y="2170080"/>
            <a:ext cx="48769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ports soil water &amp;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ports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5602-004-2C2C2DD3"/>
          <p:cNvPicPr/>
          <p:nvPr/>
        </p:nvPicPr>
        <p:blipFill>
          <a:blip r:embed="rId1"/>
          <a:stretch/>
        </p:blipFill>
        <p:spPr>
          <a:xfrm>
            <a:off x="4419720" y="2111400"/>
            <a:ext cx="44956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xylem_phloem"/>
          <p:cNvPicPr/>
          <p:nvPr/>
        </p:nvPicPr>
        <p:blipFill>
          <a:blip r:embed="rId1"/>
          <a:stretch/>
        </p:blipFill>
        <p:spPr>
          <a:xfrm>
            <a:off x="1552680" y="609480"/>
            <a:ext cx="6038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of Water &amp; Nutr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to the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moves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 mo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quires ener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oot-info1"/>
          <p:cNvPicPr/>
          <p:nvPr/>
        </p:nvPicPr>
        <p:blipFill>
          <a:blip r:embed="rId1"/>
          <a:stretch/>
        </p:blipFill>
        <p:spPr>
          <a:xfrm>
            <a:off x="5221440" y="1676520"/>
            <a:ext cx="2587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parian s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9" descr="inner_layer_of_cortex1332638357094.png"/>
          <p:cNvPicPr/>
          <p:nvPr/>
        </p:nvPicPr>
        <p:blipFill>
          <a:blip r:embed="rId1"/>
          <a:srcRect l="-19627" t="0" r="-19627" b="0"/>
          <a:stretch/>
        </p:blipFill>
        <p:spPr>
          <a:xfrm>
            <a:off x="324000" y="184464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to the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lem sap moves upward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nutrients moving into the ro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ll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mg_62231"/>
          <p:cNvPicPr/>
          <p:nvPr/>
        </p:nvPicPr>
        <p:blipFill>
          <a:blip r:embed="rId1"/>
          <a:stretch/>
        </p:blipFill>
        <p:spPr>
          <a:xfrm>
            <a:off x="4838760" y="16002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to the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vaporation of water) pulls water up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cer-saccharinum-leaves-e"/>
          <p:cNvPicPr/>
          <p:nvPr/>
        </p:nvPicPr>
        <p:blipFill>
          <a:blip r:embed="rId1"/>
          <a:stretch/>
        </p:blipFill>
        <p:spPr>
          <a:xfrm>
            <a:off x="4343400" y="2252520"/>
            <a:ext cx="426708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of Sug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y cell with a high concentration of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y cell with a low concentration of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source &amp; sink cells may change depending on stage or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9:59:45Z</dcterms:created>
  <dc:creator>rubina khan</dc:creator>
  <dc:description/>
  <dc:language>en-US</dc:language>
  <cp:lastModifiedBy>rubina khan</cp:lastModifiedBy>
  <dcterms:modified xsi:type="dcterms:W3CDTF">2016-11-24T16:15:58Z</dcterms:modified>
  <cp:revision>46</cp:revision>
  <dc:subject/>
  <dc:title>PowerPoint Presentation</dc:title>
</cp:coreProperties>
</file>